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A8B-ACB8-4E42-84CB-90BDA7C6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89F-465C-42A8-94F1-5E0B2A8B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297-324C-4144-B9E4-81BC8D3B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622-4233-4FB5-A7D4-AB52D7DA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074-D3D3-4ADB-8AEC-479040EC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83D1-0A1C-4139-9F6F-4069C4B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1E1F-7D5C-4A0A-ADCE-CAF742A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DCF9-B74E-4EE9-AF6B-C89514C9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60A-8142-4C5F-B3F0-107B6F4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037F-BEF0-4BDB-BA68-631559E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C059-2992-42EC-B8D7-8BCA0C2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C54-B3A6-463F-A0A4-FD2FCDED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6778-251B-4BFD-BE02-640940D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C46-DFF3-413E-97F8-6612B720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03D-88F0-4E5D-AB85-2C726C9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5B0-7C81-4F1A-82B1-3CA49B88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B8E-ABD7-42EE-A0E5-1141FE18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37C-630A-48BC-93C1-2CE24C6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575-9BE2-4791-9D66-4F7CD0A3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FEE-736B-468F-9BD8-3789D7C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BD0-F8D3-4EC1-81EC-6A04B20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773-4FB8-4F78-A315-FD38289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E95-33D6-4ED0-B1B7-DDE1D08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E4A-2076-4316-8379-0076D56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A0B-D82B-4DA2-81F5-13376C454C9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F25-FD51-46EC-A033-CB2B90866BC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publika.pl/leonardo2002/monazlew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publika.pl/delacroix/pages/gallery/gallery1/images/del66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jpiękniejsze muzea świat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Małgorzata Małysia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1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Francisco Goya</a:t>
            </a:r>
            <a:r>
              <a:rPr b="0" lang="pl-PL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GOYA"/>
          <p:cNvPicPr/>
          <p:nvPr/>
        </p:nvPicPr>
        <p:blipFill>
          <a:blip r:embed="rId1"/>
          <a:stretch/>
        </p:blipFill>
        <p:spPr>
          <a:xfrm>
            <a:off x="179280" y="1268280"/>
            <a:ext cx="7417080" cy="4676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22480" y="609300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Rozstrzelanie powstanców madrycki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Pablo Picasso</a:t>
            </a:r>
            <a:r>
              <a:rPr b="0" lang="pl-PL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720" y="573408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Guernica – fragm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całość: 349,3 x 776,6 c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44449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rmitaż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 Petersburgu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7477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aleria założona w 1764 roku w Pałacu Zimowym; świetny zbiór malarstwa europejskiego – ponad 3mln eksponatów !!!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57336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 muzeum warto obejrzeć nie tylko cenne dzieła malarzy ale także eksponaty ceramiczne, biżuterię, rzeźbę i stylowe meble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57184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076720" y="117360"/>
            <a:ext cx="2156040" cy="2735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076720" y="3357720"/>
            <a:ext cx="2271960" cy="295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3816360" cy="256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16000" y="6165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Henri Matiss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aul Gaugui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9440" y="62848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eonardo da Vinc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29005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Raphael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ultura rosyjsk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357800" y="1557360"/>
            <a:ext cx="3060720" cy="4392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36440" y="1557360"/>
            <a:ext cx="3832200" cy="4392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128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Gruzinka i Uzbe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609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sput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Edgar Deg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386160" cy="4497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56000" y="609300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iedząca tancerk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uzeum Sztuki Współczesnej w Nowym Jorku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5526000" cy="406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477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Muzeum powstało w 1929 roku. Posiada bogate zbiory dzieł sztuki od drugiej połowy XIX wieku do czasów współczesnych. Znajdują się tam m.in. obrazy: P.Picassa, S.Dalego, M.Chagalla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Salvador D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58920" y="1889280"/>
            <a:ext cx="5078520" cy="3686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411280" y="5950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porczywość pamięc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1563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uwr w Paryż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6011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zas powstania : 1547 – 187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 : pała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yl : francuski renesa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wierzchnia : 20 hektaró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Pablo Picass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950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anny z d'Avign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571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Vincent van Gog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wieździsta No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560556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26920" y="620640"/>
            <a:ext cx="64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uzeum Narodowe       w Warszawi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76500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360072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4000" y="549360"/>
            <a:ext cx="71276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uzeum powstało w 1862 roku; główną częścią jego zbiorów jest kolekcja sztuki polskiej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ożemy tam obejrzeć dzieła sztuki starożytnej, świetne zbiory malarstwa i rzeźby średniowiecznej oraz sztuki europejskiej od XV do XIX wieku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76500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3527640" cy="4824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71640" y="33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Stanisław Wyspiańsk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76500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0880" y="6093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cierzyństw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404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d47d"/>
                </a:solidFill>
                <a:latin typeface="Arial"/>
              </a:rPr>
              <a:t>Józef Mehoff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76500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63600" y="602136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ziwny ogró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1230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26920" y="476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Jan Matejk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4160" y="5661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ańczy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89744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68360" y="566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Dziękujemy za uwagę 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iramida na dziedzińcu – to znak rozpoznawczy Luwru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7056360" cy="411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arto zobaczyć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66920" y="1844280"/>
            <a:ext cx="392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7d47d"/>
                </a:solidFill>
                <a:latin typeface="Arial"/>
              </a:rPr>
              <a:t>Wenus z Mil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Nike z Samotrak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Rembrant, Betsabe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Leonardo da Vinci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Madonna w Groc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Georges de La Tour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Pokłon pasterz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Wenus z Milo"/>
          <p:cNvPicPr/>
          <p:nvPr/>
        </p:nvPicPr>
        <p:blipFill>
          <a:blip r:embed="rId8"/>
          <a:stretch/>
        </p:blipFill>
        <p:spPr>
          <a:xfrm>
            <a:off x="250920" y="1484280"/>
            <a:ext cx="3673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onardo da Vin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200" y="1413000"/>
            <a:ext cx="3338280" cy="5184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4156200" y="2436840"/>
            <a:ext cx="127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43480" y="2060640"/>
            <a:ext cx="27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2133720"/>
            <a:ext cx="316692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2f1311"/>
                </a:solidFill>
                <a:latin typeface="Arial"/>
              </a:rPr>
              <a:t>Perłą przebogatej kolekcji Luwru jest słynna </a:t>
            </a:r>
            <a:r>
              <a:rPr b="0" lang="pl-PL" sz="3000" spc="-1" strike="noStrike">
                <a:solidFill>
                  <a:srgbClr val="f7d47d"/>
                </a:solidFill>
                <a:latin typeface="Arial"/>
              </a:rPr>
              <a:t>Mona Lisa</a:t>
            </a:r>
            <a:r>
              <a:rPr b="0" lang="pl-PL" sz="2600" spc="-1" strike="noStrike">
                <a:solidFill>
                  <a:srgbClr val="2f1311"/>
                </a:solidFill>
                <a:latin typeface="Arial"/>
              </a:rPr>
              <a:t>, najsłynniejszy bodaj obraz świata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227160"/>
            <a:ext cx="73008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Eugene Delacroix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Liberty leading the peo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5977080" cy="4676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42920" y="616572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olność prowadząca lud na barykad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Prado w Madryc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70563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40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Założone w 1819 roku; wspaniała kolekcja sztuki hiszpańskiej oraz niderlandzkiej i flamandzkiej. W Prado znajdują się m.in. obrazy D.Velazqueza, F.Goi, H.Boscha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pl-PL" sz="3600" spc="-1" strike="noStrike">
                <a:solidFill>
                  <a:srgbClr val="f7d47d"/>
                </a:solidFill>
                <a:latin typeface="Arial"/>
              </a:rPr>
              <a:t>Szczególnie interesujące są wystawy czasowe, np. poświęcone Don Kichotowi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7d47d"/>
                </a:solidFill>
                <a:latin typeface="Arial"/>
              </a:rPr>
              <a:t>Hieronim Bos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BOSCH"/>
          <p:cNvPicPr/>
          <p:nvPr/>
        </p:nvPicPr>
        <p:blipFill>
          <a:blip r:embed="rId1"/>
          <a:stretch/>
        </p:blipFill>
        <p:spPr>
          <a:xfrm>
            <a:off x="250920" y="1052640"/>
            <a:ext cx="7200720" cy="493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6165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gród rozkoszy ziemski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9:27:51Z</dcterms:created>
  <dc:creator>administrator</dc:creator>
  <dc:description/>
  <dc:language>en-US</dc:language>
  <cp:lastModifiedBy>oem</cp:lastModifiedBy>
  <dcterms:modified xsi:type="dcterms:W3CDTF">2004-02-16T12:38:58Z</dcterms:modified>
  <cp:revision>28</cp:revision>
  <dc:subject/>
  <dc:title>Najpiękniejsze muzea świata</dc:title>
</cp:coreProperties>
</file>